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9D47-9316-4880-9546-4DA34758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6EA1-8779-48A0-BB53-B944B3B0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EDD0-B032-4804-8158-01AD1AD3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9DDB-AFEB-428E-A615-A559EFAA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D969-6D6A-45E6-864A-32BBD698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B26E-78B7-4A50-8065-64B60C3F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DB32-C0E1-40B0-BC98-5E8445BF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BA2A-7FB2-4180-A19E-D9A16487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4849-577F-4792-BEB8-2F00A668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057D-86C0-4A94-9BBF-152BB55C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0F79-B5A3-40A4-9413-2234DC77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591B8-01F5-40B4-BCCD-24CD7235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D437-6011-41B4-AB99-3C63EDD1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2775-5D6C-4FB2-A835-C56A7A19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1718-AE5B-4AD7-99D5-454A41EB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3145-5A18-47EA-9832-3098BD58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C3DC-3FA6-4A1B-87A5-E2CFAF0E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7DD63-8B5E-4C5E-B088-54943C2E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E8CD1-FB35-427C-AD03-3D5066CF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C0722-D08F-4F47-A7C8-C131163D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69BB-9F97-4DFC-A5A1-47FC6DAE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3D84-4989-475E-A9C4-4DC72DB5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7FA6-AB73-4D40-82C8-56D19693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DA93-DED8-438F-A764-9F783761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21C8-51B7-4D8D-81C8-F0165921F7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C9FE-FF2A-4E71-ADD0-11368E049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F8783-6309-41FB-BBC6-BFA3B19C1F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9000" y="4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Homophonic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8844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 Homophonic worksheet will allow you to run a frequency breakdown of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60480" y="3070080"/>
            <a:ext cx="5456160" cy="358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13000" y="2506680"/>
            <a:ext cx="1149480" cy="646200"/>
          </a:xfrm>
          <a:prstGeom prst="wedgeRoundRectCallout">
            <a:avLst>
              <a:gd name="adj1" fmla="val -46134"/>
              <a:gd name="adj2" fmla="val 68425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F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C61B-549D-4183-B6CD-073E3F7D46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Possible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5680" y="2120760"/>
            <a:ext cx="829476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Possible Word window allows you to enter a known word and CAP will search for possible number matches based on thre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number will not match two or more different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letter will not match two different numbers in the sam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wo different letters match two different numbers in the same range, the difference between the numbers will match the difference between the two letters in their alphabet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68A0-513A-45B8-91B6-1DC6A8A69B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ggested matches discovered in the Possible Word window can be entered into the worksheet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ing plaintext will be displayed and can be eval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9E11-BEB8-4C52-AF74-C67EF1B16B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7T00:07:55Z</dcterms:modified>
  <cp:revision>74</cp:revision>
  <dc:subject/>
  <dc:title>CAP Cryptographic Analysis Program</dc:title>
</cp:coreProperties>
</file>